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3A8-227F-46CB-ABAF-CF2C5FE0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E41-477A-488A-9FE1-2572A20F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DAA-8FF9-4576-BEEB-8C2A038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514-DF4E-4B47-93EF-E538D03A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E41-3804-478D-9DC1-2DB163A8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0AA-0272-411E-8258-9842FF52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1B3-A42C-4E82-90D6-627A5FA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AAF-1875-41A8-8188-3046D65C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B42-297D-426B-B478-A941A165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B81-1F73-4753-958C-33D8E44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8C4-CE64-4ABC-BB40-010E7CE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C31-05DB-4B82-A624-384691B4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93CB-E2EB-419D-B1FA-270BF88C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ЗНО – 201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ahoma"/>
              </a:rPr>
              <a:t>підсумки та перспект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8432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ПРОБЛ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рушення процедури учасниками та персоналом (22 порушенн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 – користування мобільним телеф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– калькуля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– вихід за межі П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Пильність учасників та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                   персо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і апеляційні заяви учасників З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раматорськ – спроба проходження тестування з біології іншою осо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яви від персоналу П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333360"/>
            <a:ext cx="6282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Анулювання результатів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ього анульовано 2694 результати (0,2%), 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180 (6,7%) – використання заборонених технічних засоб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45 (1,7%) – виконання тестів не на своєму робочому міс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7 (1%) – спілкування (списування) в процесі роботи над те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2442 (90,6%) – неправильне оформлення бланків відпові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Апеля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4 випадки апелювання до процедури ЗНО, з них задоволено 3 (12,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010 апеляційних заяв щодо результатів ЗНО, задоволено 1921 (27,4%), у тому числ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8 (0,7%) – результат зниже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30 (4,7%)– результат підвище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493 (21,3%) – прийнято до оцінювання за варіантом, що відповідає місцю викон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 (0,7%) – результат відно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71280" y="475920"/>
            <a:ext cx="53276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Апеляційні змі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4360" y="1484280"/>
          <a:ext cx="7842240" cy="4536720"/>
        </p:xfrm>
        <a:graphic>
          <a:graphicData uri="http://schemas.openxmlformats.org/drawingml/2006/table">
            <a:tbl>
              <a:tblPr/>
              <a:tblGrid>
                <a:gridCol w="4577040"/>
                <a:gridCol w="2003400"/>
                <a:gridCol w="1261800"/>
              </a:tblGrid>
              <a:tr h="85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 тест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ількість змінених результат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еограф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і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Історія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імецька м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і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глійська м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країнська мова та лі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6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ЗНО – 2011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Міністерстві юстиції зареєстровано наказ Міністерства освіти і науки від 26 серпня 2010 р. № 833 «Про зовнішнє оцінювання навчальних досягнень осіб, які виявили бажання вступати до вищих навчальних закладів України в 2011 році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324000" y="274680"/>
            <a:ext cx="223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ерелік предме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ська мова та літ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орія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іолог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ограф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із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ім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сійська м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оземна мова (за вибором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глійсь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імець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ранцузь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панс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б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зк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всіх вступників до вищих навчальних закладів обов'язковим є зовнішнє незалежне оцінювання з української мови та літера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зультати зовнішнього незалежного оцінювання зараховуються як вступні випробування до вищих навчальних закладів за освітньо-професійними програмами підготовки молодшого спеціаліста та бакалавра (спеціаліста, магістра, методичного та ветиринарно-медичного спрямуванн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ова складання тес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римсько – татар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лдов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ль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сій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умун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горс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собливості ЗНО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Скорочено функції зовнішнього оціню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Запроваджено два об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язкові тестування для абітурієнтів: українська мова та література, математика або історія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Модернізовано процедуру реєстрації абітуріє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Запроваджено новий зразок Сертифіката зовнішнього незалежного оціню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роведено найбільшу кількість тестувань з моменту запровадження загальнообо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язкового зовнішнього оцінюв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роведено декілька сесій зовнішнього оцінювання з української мови та літератури, математики, історії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Спрощено процедуру інформування абітурієнтів про результати проходження ними зовнішнього оціню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рієнтована кількість     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учас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705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4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Проект ПТ в базових містах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Донецька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4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Проект ПТ в базових містах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Донецька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Проекти щодо реєстр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шта – інтернет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сновні зміни до проекту Умов прийому до ВНЗ у 2011 ро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роки проведення вступної компан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роки проведення вступної компанії – 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1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липня 2011 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упні екзамени – 23-31 липня 2011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йтинговий список вступників оприлюднюється не пізніше 1 серпня 2011 ро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рах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ержзамовленням – не пізніше 10 серпня 2011 ро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кошти фізичних та юридичних осіб не пізніше 25 серпня 2011 ро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сновні зміни до проекту Умов прийому до ВНЗ у 2011 ро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німальна кількість балі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здобуття рівня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молодшого спеціаліст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не нижче 124 балів з непрофільних та профільних предме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здобуття рівня 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бакалавр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нижче 124 балів з непрофільних предмет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 нижче 140 балів з профільних предме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ижче 124 балів з одного з непрофільних предметів за умови не нижче 170 балів з профільного предмету (творчого конкурсу) – за рішенням приймальної коміс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упники мають право подавати сертифікат УЦОЯО, виданий у 2008, 2009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 у 2011 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сновні зміни до проекту Умов прийому до ВНЗ у 2011 ро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ться встановити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фіксований перелік конкурсних предмет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 напрямки підготовки бакалавра та молодшого спеціалі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5640" indent="-75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даткові ба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6480" indent="-66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успіхи у вивченні профіль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0 балів – дип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упе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0 балів – дип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тупе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0 балів – дип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туп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результатами підсумкової атестації навчання на природничо-математичних, інженерно-технічних та педагогічних напрямах підготовки підготовчих курсів при вступі до даного вищого навчального закладу – до 20 ба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5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Основні зміни до проекту Умов прийому до ВНЗ у 2011 ро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НЗ має визначити порядок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опередньої електронної реєстрац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яв вступників на участь у конкурсі з наступним поданням документів на паперових носі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рмін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одачі оригінал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ісля дня оприлюднення списків рекомендованих до зарах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ший список – 5 д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ругий та наступні – 2 д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рахування середнього балу свідоцтва про освітній рівень (за 12 бальною шкалою) при вступі на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снові базової загальної середньої освіт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ажа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ємо успіх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Статистика вибору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            предметів  ЗНО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39640" y="1700280"/>
          <a:ext cx="8158320" cy="4525920"/>
        </p:xfrm>
        <a:graphic>
          <a:graphicData uri="http://schemas.openxmlformats.org/drawingml/2006/table">
            <a:tbl>
              <a:tblPr/>
              <a:tblGrid>
                <a:gridCol w="2024280"/>
                <a:gridCol w="2043000"/>
                <a:gridCol w="2101680"/>
                <a:gridCol w="1989360"/>
              </a:tblGrid>
              <a:tr h="36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ме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вибо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нецька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ганська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їнська мова та лі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сторія Украї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оло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ограф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ім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оземні мо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ій вибі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3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Концептуальні рішення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                                УЦОЯ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ведення тестування в базових адміністративних одиниц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агатосесійні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нципи розподілу учасників тестування за сесі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4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ap_Donetsk"/>
          <p:cNvPicPr/>
          <p:nvPr/>
        </p:nvPicPr>
        <p:blipFill>
          <a:blip r:embed="rId1"/>
          <a:stretch/>
        </p:blipFill>
        <p:spPr>
          <a:xfrm>
            <a:off x="2771640" y="0"/>
            <a:ext cx="4929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602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онецька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авантаженість округів регіону при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          проведенні зовнішнього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езалежного оцін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8" descr=""/>
          <p:cNvPicPr/>
          <p:nvPr/>
        </p:nvPicPr>
        <p:blipFill>
          <a:blip r:embed="rId2"/>
          <a:stretch/>
        </p:blipFill>
        <p:spPr>
          <a:xfrm>
            <a:off x="1403280" y="1600200"/>
            <a:ext cx="626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8360" y="2276640"/>
          <a:ext cx="8229600" cy="3084480"/>
        </p:xfrm>
        <a:graphic>
          <a:graphicData uri="http://schemas.openxmlformats.org/drawingml/2006/table">
            <a:tbl>
              <a:tblPr/>
              <a:tblGrid>
                <a:gridCol w="1965240"/>
                <a:gridCol w="3224520"/>
                <a:gridCol w="1093680"/>
                <a:gridCol w="1057320"/>
                <a:gridCol w="888840"/>
              </a:tblGrid>
              <a:tr h="80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 них на баз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 обла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ього П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Т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нецька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уганська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і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8"/>
          <p:cNvSpPr/>
          <p:nvPr/>
        </p:nvSpPr>
        <p:spPr>
          <a:xfrm>
            <a:off x="2340000" y="476280"/>
            <a:ext cx="626436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Створення пунктів тестування в   навчальних закладах різних типів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808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9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49120" y="691920"/>
            <a:ext cx="67705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Порушення Порядку проведення ЗН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036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буття абітурієнтів до пунктів тестування без паспортів, сертифікаті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гнорування певною частиною абітурієнтів вимог щодо заборони на зберігання при собі в процесі роботи над тестами мобільних телефонів, інших заборонених реч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авильне оформлення бланків відпові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55640" y="1628640"/>
          <a:ext cx="8064360" cy="4210200"/>
        </p:xfrm>
        <a:graphic>
          <a:graphicData uri="http://schemas.openxmlformats.org/drawingml/2006/table">
            <a:tbl>
              <a:tblPr/>
              <a:tblGrid>
                <a:gridCol w="2519280"/>
                <a:gridCol w="2051280"/>
                <a:gridCol w="1747800"/>
                <a:gridCol w="1746000"/>
              </a:tblGrid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 тест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ількість осі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стув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країнська мова та лі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19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глійська м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4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іолог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80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і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Історія Украї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26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еограф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67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і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6" descr="Логотип Донецк"/>
          <p:cNvPicPr/>
          <p:nvPr/>
        </p:nvPicPr>
        <p:blipFill>
          <a:blip r:embed="rId1"/>
          <a:stretch/>
        </p:blipFill>
        <p:spPr>
          <a:xfrm>
            <a:off x="0" y="0"/>
            <a:ext cx="2332080" cy="1368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333360"/>
            <a:ext cx="6265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сяги бланків відповідей, у яких не вказано варіант тестового зош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6:02:24Z</dcterms:created>
  <dc:creator>ПК</dc:creator>
  <dc:description/>
  <dc:language>en-US</dc:language>
  <cp:lastModifiedBy>Lashenko</cp:lastModifiedBy>
  <dcterms:modified xsi:type="dcterms:W3CDTF">2010-09-23T06:00:37Z</dcterms:modified>
  <cp:revision>33</cp:revision>
  <dc:subject/>
  <dc:title>Слайд 1</dc:title>
</cp:coreProperties>
</file>